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192-CC74-462C-843B-AD33E41A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971-368B-4771-97F7-273C81BC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15C-8230-46A5-BCC1-91E2CB8E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333-CDDA-4634-9FFB-C5B6E0AA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DA25-707A-4C64-9F67-06CA243A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F9E3-6A93-4581-A797-8BED8C4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C06A-8DF5-4161-BB31-A567A27D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A514-2445-4975-93ED-2EF5D832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B58E-7138-4D9C-A228-4DDFF071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AE81-3C25-43E0-B865-7CFD35C8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F96A-4FFA-4D9D-9843-38222968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DDF-5504-490F-9BFE-3F35DD51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22FB-370D-4DD1-B948-2ED4AFFE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B000-E7D2-410A-800F-83AD291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159F-90A5-451A-8E1A-D4E0E919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86FF-19E2-4495-BA9C-09F44792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151B-F543-4E51-8BEF-12011FBB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C8F-868B-44A2-AF17-195AA6D1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E45-4C88-401A-B3BB-4F27AA77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2D5-AAFF-4410-BC1D-34770A68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8E5-1BD0-4368-A576-08419F04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549-F8E4-4625-84A2-6BE1E2F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BAD-3955-4647-AF41-476677BA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6B0-DF58-42BD-8D52-4CBB495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E468-16BB-48AC-AAEE-B1BD3E7CE7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59A9-0125-49A2-B5ED-1A0864F558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gration of Tissues – Color Co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– Epithelial </a:t>
            </a:r>
            <a:r>
              <a:rPr b="0" lang="en-US" sz="3000" spc="-1" strike="noStrike">
                <a:solidFill>
                  <a:srgbClr val="ff9933"/>
                </a:solidFill>
                <a:latin typeface="Arial"/>
              </a:rPr>
              <a:t>O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– Connective 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YEL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 – Muscl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 – Nervou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exion or Exten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exion or Exten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60958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exion or Exten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36800" y="1219320"/>
            <a:ext cx="342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Cooper Black"/>
              </a:rPr>
              <a:t>Tissues </a:t>
            </a:r>
            <a:r>
              <a:rPr b="0" lang="en-US" sz="2500" spc="-1" strike="noStrike">
                <a:solidFill>
                  <a:srgbClr val="006633"/>
                </a:solidFill>
                <a:latin typeface="Cooper Black"/>
              </a:rPr>
              <a:t>(STUDY GUIDE pp. 4-5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 = a group of cells that have a similar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Epithelial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ms coverings, some sec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skin (epidermis), organ coverings, throat lining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Connectiv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lls spaces, conn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skin (deep layer), fascia (deep tissue), ligaments (connect bones), cartilage (between bones), bones, blood, and f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Musc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es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skeletal muscle (attached to bone), cardiac muscle (of the heart), and smooth muscle (in orga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Nervous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ends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brain, spinal cord, and ner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ame the tissue that makes up the brain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me the tissue that lines your throat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6958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ame the tissue that causes your stomach to contra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952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me the tissue that composes bone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495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scle Mov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943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eletal muscles are found in pa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uscle causes flexion, or b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cond muscle causes extension, or straighte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uscle must contract, or shorten, to cause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traction of one muscle forces the other muscle to stre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cles pull, they never pu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46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exion or Exten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4864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6:06:31Z</dcterms:created>
  <dc:creator>marguerite.marcoux</dc:creator>
  <dc:description/>
  <dc:language>en-US</dc:language>
  <cp:lastModifiedBy>marguerite.marcoux</cp:lastModifiedBy>
  <dcterms:modified xsi:type="dcterms:W3CDTF">2010-09-15T19:08:25Z</dcterms:modified>
  <cp:revision>4</cp:revision>
  <dc:subject/>
  <dc:title>Tissues (STUDY GUIDE pp. 4-5)</dc:title>
</cp:coreProperties>
</file>